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wmf" ContentType="image/x-wmf"/>
  <Override PartName="/ppt/media/image7.wmf" ContentType="image/x-wmf"/>
  <Override PartName="/ppt/media/image17.wmf" ContentType="image/x-wmf"/>
  <Override PartName="/ppt/media/image16.wmf" ContentType="image/x-wmf"/>
  <Override PartName="/ppt/media/image4.jpeg" ContentType="image/jpeg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.jpeg" ContentType="image/jpeg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D9C-E1C9-42FE-B2D4-DE3AF84A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FC99-51BD-44AD-88F2-6C6B33E0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B6FE-DE12-4C91-B8A1-04315E5C5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4A0-10C4-4D1A-BB44-730D8806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58C7-F1F4-49F1-A135-087421435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9ED3-AAEB-4744-8D13-4FAB81EC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CDD8-45B9-4405-A9BB-86A56C90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D6CF-2351-476F-AB07-D9433D943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8E4A2-6160-4330-ACE7-C160FE2E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C40B-4335-4E1F-8530-5EAA18FA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7B30-6786-4AEF-9BDE-FA4A5C59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11A8-AD06-4069-9929-0ABE4F7C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4563-DC5B-49E5-9B61-4586078A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5D09-1FC4-4078-ADE8-8F2B4E02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7496-2573-4AA5-9AE2-E2404220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12BC-6939-4901-8858-B7674BC3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F00D-97E2-4192-B2AD-36FC43CBA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4E61-00E7-4E1C-8C5A-0437EEBB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AC9-54A6-4AC7-BA8A-ECC8A009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22E-DEFD-433C-824F-FF9C1363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E784-24AC-4891-9A31-8A9A25DEE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7A1-5FDE-446B-A4F4-1FB99DE3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DEA7-A29D-4EFD-B6E8-9751FB86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283-EDE5-416D-8888-A68044CB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3A25-8AF9-473C-9B59-C6C78D00BFCF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D510-70B9-4933-96FB-B80B66A14D58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connecttoall.com/2011/03/social-media-revolution-facts-2011/" TargetMode="Externa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ganymede.chester.ac.uk/index.php?page_id=1300215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acebook.com/pages/Steve-Page/138685872815793?v=info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tevepageacademic.webs.com/Journal Articles/Bridging The Gap - final version.doc" TargetMode="External"/><Relationship Id="rId2" Type="http://schemas.openxmlformats.org/officeDocument/2006/relationships/hyperlink" Target="http://www.bbfc.co.uk/BFF270720" TargetMode="External"/><Relationship Id="rId3" Type="http://schemas.openxmlformats.org/officeDocument/2006/relationships/hyperlink" Target="http://aei.dest.gov.au/AEI/MIP/ItemsOfInterest/05Interest72_pdf.pdf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Improving the Success Rate on an International MBA Programme Through Employing Social Networking Tool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19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a0836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08366"/>
                </a:solidFill>
                <a:latin typeface="Times New Roman"/>
              </a:rPr>
              <a:t>Steve Page &amp; Paul Webb, with contributions from Gautam Rajkhowa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08366"/>
                </a:solidFill>
                <a:latin typeface="Times New Roman"/>
              </a:rPr>
              <a:t>Chester Business School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Aim of the Research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432108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e want to find ways to improve the success rate of international students on the dissertation phase of the MBA programme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1916280"/>
            <a:ext cx="2741760" cy="30286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908000" y="4437000"/>
            <a:ext cx="2968920" cy="19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earch Methods Teach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57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Historically quite a “passive” module – even though there are lots of seminar activities &amp; tutorial exercis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oving towards more active engagement facilitated through social networking tools …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292720" y="2852640"/>
            <a:ext cx="3382920" cy="21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8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cial Networking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4608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“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We lived in farms, then we lived in cities, and now we're gonna (sic) live on the internet </a:t>
            </a: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(The Social Network, 2010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ocial media is, “Fundamentally changing the way humans interact and communicate” (</a:t>
            </a:r>
            <a:r>
              <a:rPr b="0" lang="en-GB" sz="20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http://connecttoall.com/2011/03/social-media-revolution-facts-2011/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f Facebook were a country – it would be the 3</a:t>
            </a:r>
            <a:r>
              <a:rPr b="0" lang="en-GB" sz="2000" spc="-1" strike="noStrike" baseline="30000">
                <a:solidFill>
                  <a:srgbClr val="402000"/>
                </a:solidFill>
                <a:latin typeface="Times New Roman"/>
              </a:rPr>
              <a:t>rd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largest in the world …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24360" y="2924280"/>
            <a:ext cx="2808360" cy="20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Social Networking in H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5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100% of our current F/T MBA student cohort use Faceboo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t’s a familiar interface for them to us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t’s instant &amp; we can monitor their activit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651640" y="3141720"/>
            <a:ext cx="31064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6633"/>
                </a:solidFill>
                <a:latin typeface="Times New Roman"/>
              </a:rPr>
              <a:t>Why Facebook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5165640" cy="4624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We believe that Facebook is appropriate for the current study as it is, “the most popular online social networking site among university students“  Christy M.K. Cheung</a:t>
            </a:r>
            <a:r>
              <a:rPr b="0" lang="en-GB" sz="1800" spc="-1" strike="noStrike" u="sng">
                <a:solidFill>
                  <a:srgbClr val="9a7f32"/>
                </a:solidFill>
                <a:uFillTx/>
                <a:latin typeface="Times New Roman"/>
              </a:rPr>
              <a:t>a</a:t>
            </a: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, Pui-Yee Chiu, and Matthew K.O. Leeb (2010).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More than 500 million active users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50% of active users log on to Facebook in any given day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Average user has 130 friends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People spend over 700 billion minutes per month on Faceboo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Source: http://www.facebook.com/press/info.php?statistic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56360" y="3068640"/>
            <a:ext cx="2592360" cy="184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4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2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Linking Facebook to Research Methods/Dissertation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Research Methods teach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Lectures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eminars (in clas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Facebook Exercises (online discussion question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GB" sz="32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https://ganymede.chester.ac.uk/index.php?page_id=1300215</a:t>
            </a:r>
            <a:r>
              <a:rPr b="0" lang="en-GB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6633"/>
                </a:solidFill>
                <a:latin typeface="Times New Roman"/>
              </a:rPr>
              <a:t>Facebook Interface for Research Methods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Linked to my personal Facebook pag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BUT publically available – therefore I don’t need to be “friends” with students for them to use the facility {:&gt;))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Consequently students can’t see my “private” details &amp; posting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Students originally in 6 groups – now reduced to 4 …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http://www.facebook.com/pages/Steve-Page/138685872815793?v=info</a:t>
            </a: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ssues Identified to Dat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51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Lack of engagement despite familiar interfa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Some groups have been totally inactive (hence reduction from 6 groups to 4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Initially too many “inane” &amp; “chatty” comments – but this is what many people use Facebook for anyway … this has settled down latel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651640" y="2708280"/>
            <a:ext cx="29527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at Next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Assess follow through from Research Methods to dissertation stag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ontinue to use Facebook Discussion Forums through dissertation stage – monitoring engagement &amp; participation of studen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Perform “soft” analysis at end of dissertation in November 2011to try &amp; identify any relationship between Facebook participation &amp; Dissertation succes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Look for new ways to engage students through social networking tools in 2012 &amp; beyond …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651640" y="1989000"/>
          <a:ext cx="2890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989000"/>
                    <a:ext cx="2890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ome full-time international students    struggle with research methods &amp; the dissertatio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Social networking is familiar to studen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Facebook can be used as a teaching aid to support student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How successful our “experiment” has been won’t be known until the end of 2011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Watch this space … I’ll “see” you on the Interne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867280" y="2209680"/>
          <a:ext cx="2968920" cy="29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9680"/>
                    <a:ext cx="2968920" cy="29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ntext of the Research – 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302000" cy="447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The inability of the indigenous educational structure in most developing countries to satisfy growing demand means that students are looking towards western nations to secure places in higher education.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By 2020, both China and India will be unable to supply the 20 and 9 million university places respectively needed for their own student populations to meet the demands of their developing economies.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1000" y="1989000"/>
            <a:ext cx="2908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Christy M.K. Cheung</a:t>
            </a:r>
            <a:r>
              <a:rPr b="0" lang="en-GB" sz="2000" spc="-1" strike="noStrike" u="sng">
                <a:solidFill>
                  <a:srgbClr val="9a7f32"/>
                </a:solidFill>
                <a:uFillTx/>
                <a:latin typeface="Times New Roman"/>
              </a:rPr>
              <a:t>a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, Pui-Yee Chiu, and Matthew K.O. Leeb (2010), Online Social Networks: Why Do Students Use Facebook?  Available at: http://www.sciencedirect.com/science?_ob=ArticleURL&amp;_udi=B6VDC-50V0F66-2&amp;_user=10&amp;_coverDate=08%2F21%2F2010&amp;_rdoc=1&amp;_fmt=full&amp;_orig=gateway&amp;_origin=gateway&amp;_cdi=5979&amp;_sort=d&amp;_docanchor=&amp;view=c&amp;_acct=C000050221&amp;_version=1&amp;_urlVersion=0&amp;_userid=10&amp;md5=074ee2c45d41d5c3b59223f5a60f4d23&amp;searchtype=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Facebook Statistics (2011).  Available at: http://www.facebook.com/press/info.php?statistics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Marginson, S. (2004) National and global competition in higher education</a:t>
            </a:r>
            <a:r>
              <a:rPr b="0" i="1" lang="en-GB" sz="2000" spc="-1" strike="noStrike">
                <a:solidFill>
                  <a:srgbClr val="402000"/>
                </a:solidFill>
                <a:latin typeface="Times New Roman"/>
              </a:rPr>
              <a:t>. The Australian Educational Researcher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32 (2) pp. 1-39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Page, S., Rajkhowa, G. &amp; Webb, P. (2009), </a:t>
            </a:r>
            <a:r>
              <a:rPr b="0" lang="en-GB" sz="2000" spc="-1" strike="noStrike" u="sng">
                <a:solidFill>
                  <a:srgbClr val="9a7f32"/>
                </a:solidFill>
                <a:uFillTx/>
                <a:latin typeface="Times New Roman"/>
                <a:hlinkClick r:id="rId1"/>
              </a:rPr>
              <a:t>Bridging the Gap: Expectations Versus Reality for International MBA Students Studying in the UK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, Journal of the World Universities Forum, Vol 2, No. 6, pp. 137-146. 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7f3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7f32"/>
                </a:solidFill>
                <a:uFillTx/>
                <a:latin typeface="Times New Roman"/>
                <a:hlinkClick r:id="rId2"/>
              </a:rPr>
              <a:t>"The Social Network“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(2010), Columbia Pictures Corporation Ltd.  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Western, M.  et al.(2005) </a:t>
            </a:r>
            <a:r>
              <a:rPr b="0" i="1" lang="en-GB" sz="2000" spc="-1" strike="noStrike">
                <a:solidFill>
                  <a:srgbClr val="402000"/>
                </a:solidFill>
                <a:latin typeface="Times New Roman"/>
              </a:rPr>
              <a:t>Final Report of the Survey of International Students’ Spending in Australia </a:t>
            </a: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Prepared for: Australian Education International (AEI) Revised 28 July 2005 Reference: J4002, The University of Queensland [online] Available from: </a:t>
            </a:r>
            <a:r>
              <a:rPr b="0" lang="en-GB" sz="2000" spc="-1" strike="noStrike" u="sng">
                <a:solidFill>
                  <a:srgbClr val="9a7f32"/>
                </a:solidFill>
                <a:uFillTx/>
                <a:latin typeface="Times New Roman"/>
                <a:hlinkClick r:id="rId3"/>
              </a:rPr>
              <a:t>http://aei.dest.gov.au/AEI/MIP/ItemsOfInterest/05Interest72_pdf.pdf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90920" y="1752480"/>
          <a:ext cx="4343400" cy="467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752480"/>
                    <a:ext cx="434340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3" presetSubtype="52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ontext of the Research – 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4518000" cy="476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From a UK perspective, the literature is corpulent with references to the financial benefits of increasing international student populations (Marginson, 2002; Western, 2005)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However, despite the apparent monetary advantages, recruiting students from the international arena brings a number of problems to the university …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n particular, the heterogeneity of cultural backgrounds and concomitant learning styles of international students poses a number of problems, both for faculty and the students themselves (Page, Rajkhowa &amp; Webb, 2009). 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580000" y="3036960"/>
            <a:ext cx="315432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ackground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ester Business School is still fairly inexperienced in offering courses to international student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full time MBA programme (12 months study) launched in October 2007 is the first programme specifically dedicated to international studen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76720" y="2276640"/>
            <a:ext cx="36576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Overview of Full-Time MBA Programm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12 months full time (normally about 15 months to complet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ainly core modu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me options towards the end of the taught pha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earch methods part of taught modules – including developing a Research Proposa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sertation phase last 6 months of the cour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300720" y="2924280"/>
            <a:ext cx="24624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issertation Phase of the MB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71280" y="1844280"/>
            <a:ext cx="4321080" cy="453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ree components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search Proposal (2.5K words) = 15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esentation = 0%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sis (13.5K words) = 85%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867280" y="2133720"/>
            <a:ext cx="232596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earch Agend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issertation works fine for part-time employed students, but 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We have had problems with the dissertation element of the programme on the International MBA since the first cohor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24360" y="2133720"/>
            <a:ext cx="2737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Full-Time MBA Dissertation Problem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ome students …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n’t understand research metho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n’t attend supervisory meeting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Last minute attitude to work resulting in rushed &amp; often sub-standard wor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ven more importantly (from the university perspective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ssues of plagiaris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ssues of commissioning wor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Dealing with Full-Time MBA Dissertation Problems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Some students …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Don’t understand research methods –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part of this resear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Don’t attend supervisory meetings – we’re making then compulsor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Last minute attitude to work resulting in rushed &amp; often sub-standard work –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part of this resear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e9964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Times New Roman"/>
              </a:rPr>
              <a:t>Even more importantly (from the university perspective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ssues of plagiarism – we now use TurnIt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e996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2000"/>
                </a:solidFill>
                <a:latin typeface="Times New Roman"/>
              </a:rPr>
              <a:t>Issues of commissioning work – will be more difficult for students as we are monitoring their engagement, again - </a:t>
            </a:r>
            <a:r>
              <a:rPr b="0" lang="en-GB" sz="2000" spc="-1" strike="noStrike">
                <a:solidFill>
                  <a:srgbClr val="ff0000"/>
                </a:solidFill>
                <a:latin typeface="Times New Roman"/>
              </a:rPr>
              <a:t>part of this researc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54:40Z</dcterms:created>
  <dc:creator>Steve Page</dc:creator>
  <dc:description/>
  <cp:keywords/>
  <dc:language>en-US</dc:language>
  <cp:lastModifiedBy>Steve</cp:lastModifiedBy>
  <cp:lastPrinted>1998-04-11T08:02:44Z</cp:lastPrinted>
  <dcterms:modified xsi:type="dcterms:W3CDTF">2011-04-26T14:48:30Z</dcterms:modified>
  <cp:revision>28</cp:revision>
  <dc:subject/>
  <dc:title>IT Impact in the UK: Some Lessons from the UK's most Successful Companies</dc:title>
</cp:coreProperties>
</file>