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444-D3B9-4096-80F8-89AA7CEB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178-01AC-455A-9087-37AA819D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816-2E0B-47B6-95A9-EEC0B3A1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AF3-DEB9-4CA0-B2D7-4A8D748E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D979-5377-421C-89EB-3E4868DB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80B2-F8D2-4316-98CE-118C8FD9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9258-9A26-42BF-A4C6-223A3E7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A1A1-1FAD-40A0-B868-A326143C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CDB1-C4F6-4399-96D4-BB2AE292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961-B12B-4713-B812-C1D28DD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64FD-E7A8-4969-BE98-F21CC1F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145-EE46-4FD1-B9FE-A90AC21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A27B-F88E-4624-9E3C-1756A82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B61E-BE7E-4547-BFA8-172ACDF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EDD9-79D2-4333-BD05-C0421FA0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CF88-D09F-48BA-BDC6-1A2C5C28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A66-891C-441F-8E77-948623C3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F24-9531-43A9-A61D-C5206C7C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E24-395A-4A3F-ABCF-287FD7C8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D49-D167-4CB5-B5AA-E8D5BDEA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75C-C440-40B6-9CEF-05DCB40D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33E-C153-44C4-80B2-E887773A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FA6-020F-44D0-8CE0-76B101D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16B-84E3-4049-9D83-C4C0DE1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155-40E4-48A3-97F2-EF94FABB439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D82-C9E2-4CAD-82CD-F07E3C3F218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nnecttoall.com/2011/03/social-media-revolution-facts-2011/" TargetMode="Externa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ganymede.chester.ac.uk/index.php?page_id=1300215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acebook.com/pages/Steve-Page/138685872815793?v=info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tevepageacademic.webs.com/Journal Articles/Bridging The Gap - final version.doc" TargetMode="External"/><Relationship Id="rId2" Type="http://schemas.openxmlformats.org/officeDocument/2006/relationships/hyperlink" Target="http://www.bbfc.co.uk/BFF270720" TargetMode="External"/><Relationship Id="rId3" Type="http://schemas.openxmlformats.org/officeDocument/2006/relationships/hyperlink" Target="http://aei.dest.gov.au/AEI/MIP/ItemsOfInterest/05Interest72_pdf.pdf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mproving the Success Rate on an International MBA Programme Through Employing Social Networking Tool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19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08366"/>
                </a:solidFill>
                <a:latin typeface="Times New Roman"/>
              </a:rPr>
              <a:t>Steve Page &amp; Paul Webb, with contributions from Gautam Rajkhowa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08366"/>
                </a:solidFill>
                <a:latin typeface="Times New Roman"/>
              </a:rPr>
              <a:t>Chester Business School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im of the Researc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432108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e want to find ways to improve the success rate of international students on the dissertation phase of the MBA programme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741760" cy="30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8000" y="4437000"/>
            <a:ext cx="296892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earch Methods Teach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istorically quite a “passive” module – even though there are lots of seminar activities &amp; tutorial exerci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ving towards more active engagement facilitated through social networking tools …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338292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cial Networ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460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e lived in farms, then we lived in cities, and now we're gonna (sic) live on the internet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(The Social Network, 2010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ocial media is, “Fundamentally changing the way humans interact and communicate” (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connecttoall.com/2011/03/social-media-revolution-facts-2011/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f Facebook were a country – it would be the 3</a:t>
            </a:r>
            <a:r>
              <a:rPr b="0" lang="en-GB" sz="20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largest in the world …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24360" y="2924280"/>
            <a:ext cx="2808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cial Networking in H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5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100% of our current F/T MBA student cohort use Faceboo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t’s a familiar interface for them to u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t’s instant &amp; we can monitor their activ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31064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Why Facebook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5165640" cy="46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We believe that Facebook is appropriate for the current study as it is, “the most popular online social networking site among university students“  Christy M.K. Cheung</a:t>
            </a:r>
            <a:r>
              <a:rPr b="0" lang="en-GB" sz="1800" spc="-1" strike="noStrike" u="sng">
                <a:solidFill>
                  <a:srgbClr val="9a7f32"/>
                </a:solidFill>
                <a:uFillTx/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, Pui-Yee Chiu, and Matthew K.O. Leeb (2010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More than 500 million active users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50% of active users log on to Facebook in any given day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Average user has 130 friends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People spend over 700 billion minutes per month on Faceboo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Source: http://www.facebook.com/press/info.php?statistic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5923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4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Linking Facebook to Research Methods/Disserta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Research Methods teach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Lecture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eminars (in clas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Facebook Exercises (online discussion question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s://ganymede.chester.ac.uk/index.php?page_id=1300215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Facebook Interface for Research Methods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Linked to my personal Facebook pa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BUT publically available – therefore I don’t need to be “friends” with students for them to use the facility {:&gt;))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onsequently students can’t see my “private” details &amp; postin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ents originally in 6 groups – now reduced to 4 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www.facebook.com/pages/Steve-Page/138685872815793?v=info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ssues Identified to Dat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51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Lack of engagement despite familiar interfa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Some groups have been totally inactive (hence reduction from 6 groups to 4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Initially too many “inane” &amp; “chatty” comments – but this is what many people use Facebook for anyway … this has settled down latel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29527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Next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ssess follow through from Research Methods to dissertation stag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ontinue to use Facebook Discussion Forums through dissertation stage – monitoring engagement &amp; participation of studen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erform “soft” analysis at end of dissertation in November 2011to try &amp; identify any relationship between Facebook participation &amp; Dissertation succes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Look for new ways to engage students through social networking tools in 2012 &amp; beyond …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651640" y="198900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9890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ome full-time international students    struggle with research methods &amp; the dissertati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ocial networking is familiar to studen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acebook can be used as a teaching aid to support studen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How successful our “experiment” has been won’t be known until the end of 201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atch this space … I’ll “see” you on the Interne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867280" y="2209680"/>
          <a:ext cx="2968920" cy="29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9680"/>
                    <a:ext cx="2968920" cy="29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text of the Research –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302000" cy="447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inability of the indigenous educational structure in most developing countries to satisfy growing demand means that students are looking towards western nations to secure places in higher education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y 2020, both China and India will be unable to supply the 20 and 9 million university places respectively needed for their own student populations to meet the demands of their developing economies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1000" y="1989000"/>
            <a:ext cx="2908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hristy M.K. Cheung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, Pui-Yee Chiu, and Matthew K.O. Leeb (2010), Online Social Networks: Why Do Students Use Facebook?  Available at: http://www.sciencedirect.com/science?_ob=ArticleURL&amp;_udi=B6VDC-50V0F66-2&amp;_user=10&amp;_coverDate=08%2F21%2F2010&amp;_rdoc=1&amp;_fmt=full&amp;_orig=gateway&amp;_origin=gateway&amp;_cdi=5979&amp;_sort=d&amp;_docanchor=&amp;view=c&amp;_acct=C000050221&amp;_version=1&amp;_urlVersion=0&amp;_userid=10&amp;md5=074ee2c45d41d5c3b59223f5a60f4d23&amp;searchtype=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acebook Statistics (2011).  Available at: http://www.facebook.com/press/info.php?statistics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Marginson, S. (2004) National and global competition in higher education</a:t>
            </a:r>
            <a:r>
              <a:rPr b="0" i="1" lang="en-GB" sz="2000" spc="-1" strike="noStrike">
                <a:solidFill>
                  <a:srgbClr val="402000"/>
                </a:solidFill>
                <a:latin typeface="Times New Roman"/>
              </a:rPr>
              <a:t>. The Australian Educational Researcher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32 (2) pp. 1-39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age, S., Rajkhowa, G. &amp; Webb, P. (2009), 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Bridging the Gap: Expectations Versus Reality for International MBA Students Studying in the UK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, Journal of the World Universities Forum, Vol 2, No. 6, pp. 137-146.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7f3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"The Social Network“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(2010), Columbia Pictures Corporation Ltd.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estern, M.  et al.(2005) </a:t>
            </a:r>
            <a:r>
              <a:rPr b="0" i="1" lang="en-GB" sz="2000" spc="-1" strike="noStrike">
                <a:solidFill>
                  <a:srgbClr val="402000"/>
                </a:solidFill>
                <a:latin typeface="Times New Roman"/>
              </a:rPr>
              <a:t>Final Report of the Survey of International Students’ Spending in Australia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repared for: Australian Education International (AEI) Revised 28 July 2005 Reference: J4002, The University of Queensland [online] Available from: 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http://aei.dest.gov.au/AEI/MIP/ItemsOfInterest/05Interest72_pdf.pd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90920" y="1752480"/>
          <a:ext cx="434340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43434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text of the Research –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4518000" cy="476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rom a UK perspective, the literature is corpulent with references to the financial benefits of increasing international student populations (Marginson, 2002; Western, 2005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However, despite the apparent monetary advantages, recruiting students from the international arena brings a number of problems to the university …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n particular, the heterogeneity of cultural backgrounds and concomitant learning styles of international students poses a number of problems, both for faculty and the students themselves (Page, Rajkhowa &amp; Webb, 2009)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80000" y="3036960"/>
            <a:ext cx="315432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ckground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ester Business School is still fairly inexperienced in offering courses to international studen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full time MBA programme (12 months study) launched in October 2007 is the first programme specifically dedicated to international studen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657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Overview of Full-Time MBA Programm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2 months full time (normally about 15 months to comple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inly core modu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me options towards the end of the taught ph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earch methods part of taught modules – including developing a Research Propos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sertation phase last 6 months of the cour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924280"/>
            <a:ext cx="24624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ssertation Phase of the MB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432108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ree component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earch Proposal (2.5K words) = 15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esentation = 0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sis (13.5K words) = 85%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3259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earch Agend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sertation works fine for part-time employed students, but 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e have had problems with the dissertation element of the programme on the International MBA since the first cohor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7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ll-Time MBA Dissertation Problem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me students …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understand research metho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attend supervisory meeting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ast minute attitude to work resulting in rushed &amp; often sub-standard wor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n more importantly (from the university perspective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sues of plagiaris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sues of commissioning wor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ealing with Full-Time MBA Dissertation Problem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Some students 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n’t understand research methods –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part of this resear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n’t attend supervisory meetings – we’re making then compulsor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Last minute attitude to work resulting in rushed &amp; often sub-standard work –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part of this resear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Even more importantly (from the university perspectiv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sues of plagiarism – we now use TurnIt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sues of commissioning work – will be more difficult for students as we are monitoring their engagement, again -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part of this resear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54:40Z</dcterms:created>
  <dc:creator>Steve Page</dc:creator>
  <dc:description/>
  <cp:keywords/>
  <dc:language>en-US</dc:language>
  <cp:lastModifiedBy>Steve</cp:lastModifiedBy>
  <cp:lastPrinted>1998-04-11T08:02:44Z</cp:lastPrinted>
  <dcterms:modified xsi:type="dcterms:W3CDTF">2011-04-26T14:48:30Z</dcterms:modified>
  <cp:revision>28</cp:revision>
  <dc:subject/>
  <dc:title>IT Impact in the UK: Some Lessons from the UK's most Successful Companies</dc:title>
</cp:coreProperties>
</file>